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CF79-C10E-49E0-8714-9D0EFD9D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1E92-F8CE-49DF-8755-F60D9F85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134C-0814-42A8-BC15-4EC01696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B325-5BF6-425F-85E5-3EF73DA3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014-F098-4EE2-9D7A-E75BBEC5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7805-CC67-4CE6-A861-8D5ECC8C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598F-E466-4072-9318-E962D0BB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1469-8730-4733-8C65-8C18DD84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B50F-008E-4270-8CC7-FF263B22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DDFC-D079-4479-88CA-21CB4610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2C7D-A190-4019-9BAA-606F26BC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2BCD8-D560-4B61-9A7F-99DAB0DF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BB4C-17D8-4EEF-AA53-59ED6D9B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ED2C-AF07-4D6F-8E1E-A0058D8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7689-F4BE-443D-A54E-A20EB0E0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4432-5D8D-4F5C-8B15-E1566124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AF49-DF6F-44BF-8BE4-14E29CD0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A87A-D00C-4661-8F20-3450BDD0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F605-9D1E-4951-A269-650DC3D9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4C63-8438-469D-994B-DA4D47C1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49F5-BDD9-4F26-ACDA-1C56EEA7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FC1C-8894-4E72-B101-ECEE0DFC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6BE4-DE56-4707-B85C-E114B71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F33B-2D16-4406-A58F-D1490D2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75A5-A184-4318-95A7-B297A7C7A2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3457-9358-4979-81DF-1009CF7ACD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eb.mit.edu/invent/iow/wakefield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20242200">
            <a:off x="151920" y="1599840"/>
            <a:ext cx="66294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90000"/>
                  </a:srgbClr>
                </a:solidFill>
                <a:latin typeface="Impact"/>
              </a:rPr>
              <a:t>Choclate Chip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90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90000"/>
                  </a:srgbClr>
                </a:solidFill>
                <a:latin typeface="Impact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90000"/>
                  </a:srgbClr>
                </a:solidFill>
                <a:latin typeface="Impact"/>
              </a:rPr>
              <a:t>Cook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9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5334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nny              Monday, 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4380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115400">
            <a:off x="0" y="594360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440" y="380880"/>
            <a:ext cx="488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e Play Music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angerous John Do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4/2010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freeplaymusic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91320" y="533520"/>
            <a:ext cx="3352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Wakefield"/>
          <p:cNvPicPr/>
          <p:nvPr/>
        </p:nvPicPr>
        <p:blipFill>
          <a:blip r:embed="rId1"/>
          <a:srcRect l="0" t="0" r="69417" b="-4824"/>
          <a:stretch/>
        </p:blipFill>
        <p:spPr>
          <a:xfrm>
            <a:off x="4952880" y="0"/>
            <a:ext cx="4191120" cy="426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Wakefield"/>
          <p:cNvPicPr/>
          <p:nvPr/>
        </p:nvPicPr>
        <p:blipFill>
          <a:blip r:embed="rId2"/>
          <a:stretch/>
        </p:blipFill>
        <p:spPr>
          <a:xfrm>
            <a:off x="0" y="419112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914400"/>
            <a:ext cx="320040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meisons MIT program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uth Wakefie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ednesday, September 29, 2010,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web.mit.edu/invent/iow/wakefield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or: Ruth Wakefi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th graduated from the Framingham State normal school department house hold ar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graduated in 192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and her husband ( Kenneth Wakefield) purchased a house in 1930 in the middle of Whitman, Massachuset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made her first chocolate cookie in the toll ho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ter She and her husband made there house a cookie restaurant and it was called the toll hou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New Years Eve she made a batch of chocolate chip cookies and burnt the place dow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ention: Chocolate chip cook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colate chip cookies are a desert that has dough heated with little chocolate chips in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was originally called the toll house cooki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was made in the year of 193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hole world started making the recipe a short time after On new years eve the batch of chocolate chip cookies burnt down the whole toll ho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9Z</dcterms:created>
  <dc:creator>install</dc:creator>
  <dc:description/>
  <dc:language>en-US</dc:language>
  <cp:lastModifiedBy>install</cp:lastModifiedBy>
  <dcterms:modified xsi:type="dcterms:W3CDTF">2010-10-14T17:33:23Z</dcterms:modified>
  <cp:revision>11</cp:revision>
  <dc:subject/>
  <dc:title>Slide 1</dc:title>
</cp:coreProperties>
</file>